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1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363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4" descr="mmr_cr_rgb.emf"/>
          <p:cNvPicPr/>
          <p:nvPr/>
        </p:nvPicPr>
        <p:blipFill>
          <a:blip r:embed="rId5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40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79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1403280" y="3789360"/>
            <a:ext cx="72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INISTERSTVO PRO MÍSTNÍ ROZVOJ Č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5" descr="mmr_cr_rgb.emf"/>
          <p:cNvPicPr/>
          <p:nvPr/>
        </p:nvPicPr>
        <p:blipFill>
          <a:blip r:embed="rId4"/>
          <a:stretch/>
        </p:blipFill>
        <p:spPr>
          <a:xfrm>
            <a:off x="324000" y="692280"/>
            <a:ext cx="2565360" cy="56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120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122" name="Obrázek 4" descr="mmr_cr_rgb.emf"/>
          <p:cNvPicPr/>
          <p:nvPr/>
        </p:nvPicPr>
        <p:blipFill>
          <a:blip r:embed="rId4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162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4" descr="mmr_cr_rgb.emf"/>
          <p:cNvPicPr/>
          <p:nvPr/>
        </p:nvPicPr>
        <p:blipFill>
          <a:blip r:embed="rId4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Obrázek 9" descr="podtisk_modry.emf"/>
          <p:cNvPicPr/>
          <p:nvPr/>
        </p:nvPicPr>
        <p:blipFill>
          <a:blip r:embed="rId2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202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délník 8" descr=""/>
          <p:cNvPicPr/>
          <p:nvPr/>
        </p:nvPicPr>
        <p:blipFill>
          <a:blip r:embed="rId3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204" name="Obrázek 4" descr="mmr_cr_rgb.emf"/>
          <p:cNvPicPr/>
          <p:nvPr/>
        </p:nvPicPr>
        <p:blipFill>
          <a:blip r:embed="rId4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242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sp>
        <p:nvSpPr>
          <p:cNvPr id="244" name="Podnadpis 2"/>
          <p:cNvSpPr/>
          <p:nvPr/>
        </p:nvSpPr>
        <p:spPr>
          <a:xfrm>
            <a:off x="1403280" y="3789360"/>
            <a:ext cx="720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INISTERSTVO PRO MÍSTNÍ ROZVOJ Č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ázek 5" descr="mmr_cr_rgb.emf"/>
          <p:cNvPicPr/>
          <p:nvPr/>
        </p:nvPicPr>
        <p:blipFill>
          <a:blip r:embed="rId5"/>
          <a:stretch/>
        </p:blipFill>
        <p:spPr>
          <a:xfrm>
            <a:off x="324000" y="692280"/>
            <a:ext cx="2565360" cy="563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285" name="Obrázek 4" descr="mmr_cr_rgb.emf"/>
          <p:cNvPicPr/>
          <p:nvPr/>
        </p:nvPicPr>
        <p:blipFill>
          <a:blip r:embed="rId5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Obrázek 9" descr="podtisk_modry.emf"/>
          <p:cNvPicPr/>
          <p:nvPr/>
        </p:nvPicPr>
        <p:blipFill>
          <a:blip r:embed="rId3"/>
          <a:srcRect l="17007" t="0" r="0" b="8625"/>
          <a:stretch/>
        </p:blipFill>
        <p:spPr>
          <a:xfrm>
            <a:off x="0" y="1989000"/>
            <a:ext cx="7908840" cy="486900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Obdélník 8" descr=""/>
          <p:cNvPicPr/>
          <p:nvPr/>
        </p:nvPicPr>
        <p:blipFill>
          <a:blip r:embed="rId4"/>
          <a:stretch/>
        </p:blipFill>
        <p:spPr>
          <a:xfrm>
            <a:off x="-12600" y="262080"/>
            <a:ext cx="9169200" cy="291960"/>
          </a:xfrm>
          <a:prstGeom prst="rect">
            <a:avLst/>
          </a:prstGeom>
          <a:ln w="0">
            <a:noFill/>
          </a:ln>
        </p:spPr>
      </p:pic>
      <p:pic>
        <p:nvPicPr>
          <p:cNvPr id="325" name="Obrázek 4" descr="mmr_cr_rgb.emf"/>
          <p:cNvPicPr/>
          <p:nvPr/>
        </p:nvPicPr>
        <p:blipFill>
          <a:blip r:embed="rId5"/>
          <a:stretch/>
        </p:blipFill>
        <p:spPr>
          <a:xfrm>
            <a:off x="468360" y="620640"/>
            <a:ext cx="2016000" cy="44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71680" y="5373360"/>
            <a:ext cx="82152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4. května 2016, Letoh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539640" y="1916280"/>
            <a:ext cx="835344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000099"/>
                </a:solidFill>
                <a:latin typeface="Arial"/>
                <a:ea typeface="Arial"/>
              </a:rPr>
              <a:t>Průměrné ceny dopravní  </a:t>
            </a:r>
            <a:br>
              <a:rPr sz="4400"/>
            </a:br>
            <a:r>
              <a:rPr b="1" lang="cs-CZ" sz="4400" spc="-1" strike="noStrike">
                <a:solidFill>
                  <a:srgbClr val="000099"/>
                </a:solidFill>
                <a:latin typeface="Arial"/>
                <a:ea typeface="Arial"/>
              </a:rPr>
              <a:t>a technické infrastrukt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dnadpis 1"/>
          <p:cNvSpPr/>
          <p:nvPr/>
        </p:nvSpPr>
        <p:spPr>
          <a:xfrm>
            <a:off x="539640" y="4437000"/>
            <a:ext cx="8215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regionální polit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95280" y="184428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Publikace je zpracována Ústavem územního rozvoje </a:t>
            </a:r>
            <a:br>
              <a:rPr sz="17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za garance odboru regionální politiky Ministerstva pro místní rozvoj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Jedná se o aktualizované vydání s údaji v cenové úrovni 2. pololetí 2015 (bez DPH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Potřebná data a informace poskytly firm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QUATIS, a. s., B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RTS, a. s., B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Dále jsou ceny přepočítány dle oceňovací vyhlášky Ministerstva financí </a:t>
            </a:r>
            <a:br>
              <a:rPr sz="17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č. 441/2013 Sb., ve znění vyhlášky č. 199/2014 Sb. a o některých ustanoveních zákona o oceňování majetku č. 151/1997 Sb., ve znění pozdějších předpisů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Publikace je dostupná na webových stránkách Ústavu územního rozvoje</a:t>
            </a:r>
            <a:br>
              <a:rPr sz="17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www.uur.cz – Publikační činnost a knihovna – Internetové prezentace – Průměrné ceny dopravní a technické infrastruktu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http://www.uur.cz/images/5-publikacni-cinnost-a-knihovna/internetove-prezentace/prumerne-ceny-TI/celek-ceny-ti-21032015x.pd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Vznik publ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924000" y="1915920"/>
            <a:ext cx="475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em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sobování vod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vádění a čištění odpadních 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sobování elektrickou energ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sobování plyn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řejné osvět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becní rozh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ístní komunik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řejná zel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Elektronické komun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915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99"/>
                </a:solidFill>
                <a:latin typeface="Arial"/>
                <a:ea typeface="Arial"/>
              </a:rPr>
              <a:t>Obsah publ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ceny-ti-2015-titul"/>
          <p:cNvPicPr/>
          <p:nvPr/>
        </p:nvPicPr>
        <p:blipFill>
          <a:blip r:embed="rId1"/>
          <a:stretch/>
        </p:blipFill>
        <p:spPr>
          <a:xfrm>
            <a:off x="684360" y="2058840"/>
            <a:ext cx="2879640" cy="408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0" name="TextovéPole 1"/>
          <p:cNvSpPr/>
          <p:nvPr/>
        </p:nvSpPr>
        <p:spPr>
          <a:xfrm>
            <a:off x="684360" y="6207120"/>
            <a:ext cx="28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Publikace Aktualizace 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94920" y="2133360"/>
            <a:ext cx="460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cete rychle zjistit rozpočtové náklady stavební části objekt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cete rychle zjistit vývoj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enové úrovn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cete si zvětšit detail skladby, umístění nebo upravené ploc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současně nechcete hledat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celé publikac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HLEDEJTE SVOJI AK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99"/>
                </a:solidFill>
                <a:latin typeface="Arial"/>
                <a:ea typeface="Arial"/>
              </a:rPr>
              <a:t>ZDE JE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uur.cz/default.asp?ID=8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Karty samostatných příkladů z publik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Obrázek 1" descr=""/>
          <p:cNvPicPr/>
          <p:nvPr/>
        </p:nvPicPr>
        <p:blipFill>
          <a:blip r:embed="rId1"/>
          <a:stretch/>
        </p:blipFill>
        <p:spPr>
          <a:xfrm>
            <a:off x="5148360" y="2205000"/>
            <a:ext cx="3603600" cy="35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4" name="TextovéPole 4"/>
          <p:cNvSpPr/>
          <p:nvPr/>
        </p:nvSpPr>
        <p:spPr>
          <a:xfrm>
            <a:off x="5219640" y="5877000"/>
            <a:ext cx="331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Příklad karty V07</a:t>
            </a:r>
            <a:br>
              <a:rPr sz="1000"/>
            </a:b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Vodovod pro zásobování výstavby obytných dom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Šipka doprava 1"/>
          <p:cNvSpPr/>
          <p:nvPr/>
        </p:nvSpPr>
        <p:spPr>
          <a:xfrm rot="19579200">
            <a:off x="4157640" y="5136840"/>
            <a:ext cx="1528920" cy="206280"/>
          </a:xfrm>
          <a:prstGeom prst="rightArrow">
            <a:avLst>
              <a:gd name="adj1" fmla="val 50000"/>
              <a:gd name="adj2" fmla="val 93918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50920" y="1125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Ukázka webové stránky </a:t>
            </a:r>
            <a:br>
              <a:rPr sz="3200"/>
            </a:br>
            <a:r>
              <a:rPr b="1" lang="cs-CZ" sz="3200" spc="-1" strike="noStrike">
                <a:solidFill>
                  <a:srgbClr val="000099"/>
                </a:solidFill>
                <a:latin typeface="Arial"/>
                <a:ea typeface="Arial"/>
              </a:rPr>
              <a:t>Průměrné ceny dopravní a technické infrastruk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Obrázek 21" descr=""/>
          <p:cNvPicPr/>
          <p:nvPr/>
        </p:nvPicPr>
        <p:blipFill>
          <a:blip r:embed="rId1"/>
          <a:stretch/>
        </p:blipFill>
        <p:spPr>
          <a:xfrm>
            <a:off x="395280" y="2344680"/>
            <a:ext cx="4140360" cy="391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8" name="Obrázek 22" descr=""/>
          <p:cNvPicPr/>
          <p:nvPr/>
        </p:nvPicPr>
        <p:blipFill>
          <a:blip r:embed="rId2"/>
          <a:srcRect l="0" t="2141" r="0" b="18267"/>
          <a:stretch/>
        </p:blipFill>
        <p:spPr>
          <a:xfrm>
            <a:off x="4716360" y="2682720"/>
            <a:ext cx="4140360" cy="311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9" name="TextovéPole 5"/>
          <p:cNvSpPr/>
          <p:nvPr/>
        </p:nvSpPr>
        <p:spPr>
          <a:xfrm>
            <a:off x="2908440" y="6351480"/>
            <a:ext cx="33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Arial"/>
              </a:rPr>
              <a:t>Ukázky z webové stránk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8291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99"/>
                </a:solidFill>
                <a:latin typeface="Arial"/>
                <a:ea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79280" y="4005000"/>
            <a:ext cx="878544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AUTORSKÝ KOLEKT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Ústav územního rozvoj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ng. arch. Hana Šimková, Ph.D., tel: 542 423 132, e-mail: simkova@uu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Ministerstvo pro místní rozvoj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Ing. Josef Vlk, CSc., odbor regionální politi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6:46:08Z</dcterms:created>
  <dc:creator>uzivatel</dc:creator>
  <dc:description/>
  <dc:language>en-US</dc:language>
  <cp:lastModifiedBy>uzivatel</cp:lastModifiedBy>
  <cp:lastPrinted>2015-09-17T09:10:29Z</cp:lastPrinted>
  <dcterms:modified xsi:type="dcterms:W3CDTF">2016-04-26T06:54:39Z</dcterms:modified>
  <cp:revision>133</cp:revision>
  <dc:subject/>
  <dc:title>Udržovací práce  na „Kapli Svatých andělů strážných v Říkově evidenční č. 117D815000798</dc:title>
</cp:coreProperties>
</file>